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explode.wav" ContentType="audio/x-wav"/>
  <Override PartName="/ppt/media/applause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D4C-98B8-494E-BBC8-C095160D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0EC-0444-4EBE-89CA-5DE032C5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1F60F-BA61-4BE7-87CE-B060BBFC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EDE6B-38DE-465C-A37A-CF726EE6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88191-7B51-478B-B5FB-9423FF98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F3EA07-B2EA-4566-925C-8E6D3B1E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CEDD54-1CF3-4D6F-85B7-2C8152D6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6090C-085B-4567-BF24-39EBB80E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5CFD64-2387-4EBB-82E6-01C546C0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12AC5-A53B-424C-B565-B83473D6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70247-824F-48C6-BA6F-A6616357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2F5195-F4A5-424F-853A-9D8ED84C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AAAA-BCA7-41A6-B942-8BEDF964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BE722-AE88-493A-81E6-F9B7F4B5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2C2CF8-3E8A-4AF9-8B6C-97EA557F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F6656-5B40-41CC-A3AF-7A6C3ABE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1ED3BF-EF73-43FF-9325-52AA66F6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D7A40-E8DE-4EF7-9AAE-10B5605A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EDB72-E262-4369-AC03-286AC89B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D9634-7E7E-4D9E-A511-EFEEE5AD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359A96-6A7B-430D-B589-5647DF7C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A6CA7-E28A-43AD-BE58-C7918886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1EC07-5534-4BD7-82D9-5CF5BB03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BE90-9EFD-47F9-9C6B-4979CD5F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B66D37-5235-44BE-9238-DD77A5A9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36AA8-16DF-4E7F-865D-66F03715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B7474-055C-495E-BDCB-D2672E1A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E2A3A-B853-46BF-8C4D-62F083AF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36952-B2EC-47CA-873C-45A37E57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6CE71-92EE-4B2C-A7B4-1DA7C345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35D1E-2D49-4384-8AD7-A5C36A3C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B262F-24F3-48AA-877E-B5DECFDB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8FC57-56CD-41C5-8C76-EB59D0EE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D2672-CD7D-415E-9B4D-0DF37C1F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C7DB-AF35-4601-BDF3-C9C8E841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3BD23-5BD7-4321-9351-F21FEF74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AABBB-F1F0-4AC1-ABDD-F91C2A0C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AB3BE-72A4-4CCC-ABA1-0E7F65C0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927D8-A19F-4388-894A-374F75A6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B3E056-F32F-4A69-AF67-4220FD97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509004-CE85-432C-A23E-4162264D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37F246-371D-4530-8347-ABC5E6B1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71BA7-DDFA-4D63-9D5E-191DB5AD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E56130-83C1-45C1-BAE5-81CCFA43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4D2178-4B05-441E-8129-AF97AC49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064B-A54C-4C3F-8AD4-8AE53CC7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E78501-6788-4403-8A4A-2D4388F6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BDA34-AFEE-4428-A418-075FDEDD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607E9D-5FDC-4BA5-A114-B20EBB90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C6611-BDD6-4F5D-974B-1B6E3AA8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C4C1B-474B-41A1-B37F-0B34355B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C777-9ECB-4A70-B7C0-3AF5F1D9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1D02-2D10-4D64-B0A1-8248EE81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8772-BE11-415F-93B8-CEFB2BA5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9072-891C-4CB2-94ED-A647A052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4F38-0C66-497B-89E4-C07FFB6C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226F-2BD7-4029-9427-79892A2A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906D-DB82-45EF-A03C-09567F1F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EEA7-C7E6-4E9B-BAD7-98D31A79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57CD-2CC8-4D8C-BD4B-B0E85FE3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196F-423D-4DCD-93E9-B4D58189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898E-E97B-41AB-8BC6-ACF30FC7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3FF7C-66EC-4711-850E-E50A8CD4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2C81B-4F79-4E8B-AA8B-2091C769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A3A24-EEE4-4810-B7D2-58C14664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D201D-E5D8-4A08-936C-0845AC2F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C4593-6134-46B0-8B72-E3ABDCDD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E2E-FEE0-479F-A1BF-0CD2483F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CBF70-3BB6-49AB-B93F-64B44D1E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2F50D-D73C-4E83-8C92-1A76DD49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B1ADA-B495-490B-A43A-0D163632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1174D-28FF-4768-8994-3C0412E5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7BE0C-C6F9-4398-BACA-E0D9E397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F67D5-E6E0-4606-8210-5DCA5AB1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8B111-3E98-40EA-9862-6495E8CE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7B5E2-5A02-4CB0-8B06-B7545CDA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55257-7C60-45B4-9A59-CB64DD5D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EF8AE-4ED2-4EBF-BB2A-1821B40E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21C-4422-48A6-801D-4A0B3329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AB127-6B11-4368-B9A3-EF7C2BCD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170AC-34F2-4249-943B-1C908BB1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A3FCF-7AA6-4562-98DE-A56B6B66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FFCE7-754A-4AD9-B1DB-C4031FCD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B37C3-89B3-4EE9-96D7-894527FD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162EC-84E4-405F-82DF-81D519AF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48FC0-7C1E-4B5C-9E8A-37EBF4A8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0D131-B24F-4F44-A129-1E6163E9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015F5-8ADF-4D84-8DF2-5D0B4499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97A4D-74D5-440F-A5D3-72D71407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099C-362D-4561-8BF0-7504B746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E31A4-28B6-4BA9-8246-D38540FE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1D253-3D1F-4F74-9FB3-0354C010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2C223-0ADB-4DF8-979A-BA91E579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C9A20-5EBB-463D-8C4D-4775CE3B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3A489-BCA3-476E-AD2E-EE55FA6A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EE84A-E1E7-4B23-AEE1-5797F6BF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2AE37-0D47-48C5-A033-1D239345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B1BA6-CFD1-4FBE-B133-79E389B6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69B76-7336-486B-8914-3C2B3813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FA9E9-2FA4-4F70-8178-F4576885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303B-0BA0-452E-9DE2-827172A1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525FA-8C6C-4791-B8B5-82144DE9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B052A-A1E3-4BF9-8571-6F785971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5DFC1-9DD1-45C6-A05D-2DF77FA3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191C0-8FD0-4D2C-8C1C-2BF27647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C2262-5FF1-4278-BDC7-1027A31D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A943F-11F5-4F80-865A-2197AFC5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C0155-D30B-446F-86C3-808620A8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67C06-E135-4DA8-8D5A-387D95AF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03992-682A-40CF-847D-2B16D640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A720C-2D0C-42CB-97E8-D5EA26CF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228-343D-43A6-8A40-303A795D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00F90-6F40-4889-9A88-FBDFDE5A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BBA2C-AFF9-49B5-BE6F-53EA8C96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11EB8-E501-482A-997D-DE1DD57E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C2B0F-686A-4337-9618-1D8436D0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830A1-2C55-48D1-9909-01CDA67B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131C2-448D-4CC6-AE78-499A8870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42AEE-6669-42C5-9A17-608D406E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05E7B-0612-4830-898E-B46779B7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14021-899A-498F-9B13-370AA275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063D3-9196-4C69-BA5B-C31A018D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8EA4-6563-498D-9007-2FCBE6A5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12BE6-2AAF-496A-A28C-E723EE3B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712B1-D57F-48DD-962E-43A1B458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67CB3-96B4-4AB2-A4BA-3FC99CB6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B199E-9F10-4910-8BBD-59FF3DD6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6F1DC-9F1A-4CFB-9BA0-6CEAD301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8537B-9ACD-40D7-A487-F5FECBFF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086F7-B2CF-44B6-BD85-5B7F340A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FBE69-20B1-4608-B4CE-5296B1B9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0D580-DDF9-4B80-823E-90FC54E6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49D8A-70B2-4814-A814-8E0BA57E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F035-045B-49C8-A076-A52B6D45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5FF93-281D-48C8-B17E-27FC7EFB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B4026-F195-461E-BE6D-53552978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CF256-52CB-4639-8A0E-66D83946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02054-35AD-4609-88AA-B0117559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C009C-BD56-425D-A46E-C6E7F10A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BD2BF-1809-45FB-BAB1-D607C630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3FBA3-F9AC-4CF3-BF74-E47E0623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E24BF-992E-4FD0-8FE4-41AF4508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B3027-4B1E-4949-BE9E-6FAFAD1F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0F81FA-7E84-40A7-BEB7-AF42A62B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FDFC-92CC-4DAD-B3BA-27F0807403C2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5F3E-8380-4596-A650-D6B75289D3F4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2E86-A710-4BC9-86D2-F1FA2E156437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94FE-03E9-460C-A5A3-2A51EE8E352E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CEEF-47DD-4188-80A2-C0DACFC30321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BF4E-23C4-41D9-9A13-7AD1C7E930FC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ECD2-8BDC-4440-B971-A2E2A21D8136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0213-DDA1-4477-8BD3-A31C13980B90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BE30-0C34-49C0-973F-DDBF3BB60917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2C47-5304-4037-9EC7-DBD66638D022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5D87-BEAE-4B97-9ED8-BB965285BC2D}" type="slidenum">
              <a:rPr b="0" lang="en-A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2AAB-626C-45DC-BE2A-2AB5D021896F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image" Target="../media/image1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646b86"/>
                </a:solidFill>
                <a:latin typeface="Georgia"/>
              </a:rPr>
              <a:t>BY JASON BROW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d16349"/>
                </a:solidFill>
                <a:latin typeface="Georgia"/>
              </a:rPr>
              <a:t>Bart Simpson Quiz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Question 7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Who does Bart reunit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Homer and Marge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Sideshow Bob and his brother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Krusty with his father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Question 8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What happens to Bart when he gets f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A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he gets surgery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B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he stays home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C. he suffers a heart attac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Question 9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Who are Barts favourite cartoon character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A. itchy and scratch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B. itchy and pooch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C. scratchy and poochi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7b9899"/>
                </a:solidFill>
                <a:latin typeface="Georgia"/>
              </a:rPr>
              <a:t>Question 10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Who is Barts favourite comic book hero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A. Radioactive ma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B. The Hul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C. Bartma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Game Ov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285480" y="1500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Question 1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Who does Bart moon in particular?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1. 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Mr Bur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Dr hibbar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The flag of the United Stat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4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4" action="ppaction://hlinksldjump"/>
              </a:rPr>
              <a:t>The people of Austral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SORRY TRY AGAI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600200"/>
            <a:ext cx="83296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Question 1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When was Bart born?</a:t>
            </a:r>
            <a:r>
              <a:rPr b="0" lang="en-AU" sz="25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 u="sng">
                <a:solidFill>
                  <a:srgbClr val="00a3d6"/>
                </a:solidFill>
                <a:uFillTx/>
                <a:latin typeface="Georgia"/>
                <a:hlinkClick r:id="rId4" action="ppaction://hlinksldjump"/>
              </a:rPr>
              <a:t>Question 3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 u="sng">
                <a:solidFill>
                  <a:srgbClr val="00a3d6"/>
                </a:solidFill>
                <a:uFillTx/>
                <a:latin typeface="Georgia"/>
                <a:hlinkClick r:id="rId5" action="ppaction://hlinksldjump"/>
              </a:rPr>
              <a:t>Question 4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 u="sng">
                <a:solidFill>
                  <a:srgbClr val="00a3d6"/>
                </a:solidFill>
                <a:uFillTx/>
                <a:latin typeface="Georgia"/>
                <a:hlinkClick r:id="rId6" action="ppaction://hlinksldjump"/>
              </a:rPr>
              <a:t>Question 5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 u="sng">
                <a:solidFill>
                  <a:srgbClr val="00a3d6"/>
                </a:solidFill>
                <a:uFillTx/>
                <a:latin typeface="Georgia"/>
                <a:hlinkClick r:id="rId7" action="ppaction://hlinksldjump"/>
              </a:rPr>
              <a:t>Question 6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 u="sng">
                <a:solidFill>
                  <a:srgbClr val="00a3d6"/>
                </a:solidFill>
                <a:uFillTx/>
                <a:latin typeface="Georgia"/>
                <a:hlinkClick r:id="rId8" action="ppaction://hlinksldjump"/>
              </a:rPr>
              <a:t>Question 7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 u="sng">
                <a:solidFill>
                  <a:srgbClr val="00a3d6"/>
                </a:solidFill>
                <a:uFillTx/>
                <a:latin typeface="Georgia"/>
                <a:hlinkClick r:id="rId9" action="ppaction://hlinksldjump"/>
              </a:rPr>
              <a:t>Question 8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 u="sng">
                <a:solidFill>
                  <a:srgbClr val="00a3d6"/>
                </a:solidFill>
                <a:uFillTx/>
                <a:latin typeface="Georgia"/>
                <a:hlinkClick r:id="rId10" action="ppaction://hlinksldjump"/>
              </a:rPr>
              <a:t>Question 9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Question 10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Left Arrow 3"/>
          <p:cNvSpPr/>
          <p:nvPr/>
        </p:nvSpPr>
        <p:spPr>
          <a:xfrm>
            <a:off x="3500280" y="2928960"/>
            <a:ext cx="1857600" cy="178596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j0214098.wav" descr=""/>
          <p:cNvPicPr/>
          <p:nvPr/>
        </p:nvPicPr>
        <p:blipFill>
          <a:blip r:embed="rId1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4" name="MSj04416470000[1].wav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9126" fill="hold"/>
                                        <p:tgtEl>
                                          <p:spTgt spid="6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NICE JOB YOU GOT IT CORRE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285840" y="1642680"/>
            <a:ext cx="8858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GO ON TO QUESTION 2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        go to question 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go to question 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4" action="ppaction://hlinksldjump"/>
              </a:rPr>
              <a:t>go to question 5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5" action="ppaction://hlinksldjump"/>
              </a:rPr>
              <a:t>go to question 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6" action="ppaction://hlinksldjump"/>
              </a:rPr>
              <a:t>go to question 7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7" action="ppaction://hlinksldjump"/>
              </a:rPr>
              <a:t>go to question 8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8" action="ppaction://hlinksldjump"/>
              </a:rPr>
              <a:t>go to question 9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9" action="ppaction://hlinksldjump"/>
              </a:rPr>
              <a:t>go to question 1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j0214098.wav" descr=""/>
          <p:cNvPicPr/>
          <p:nvPr/>
        </p:nvPicPr>
        <p:blipFill>
          <a:blip r:embed="rId10"/>
          <a:stretch/>
        </p:blipFill>
        <p:spPr>
          <a:xfrm>
            <a:off x="4429080" y="3214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745" fill="hold"/>
                                        <p:tgtEl>
                                          <p:spTgt spid="6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When was Bart bor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A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1998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B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198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C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2001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D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4" action="ppaction://hlinksldjump"/>
              </a:rPr>
              <a:t>1888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Question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What does el Barto stand for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Bart in Mexic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Bart in French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Bart in Russi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4.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4" action="ppaction://hlinksldjump"/>
              </a:rPr>
              <a:t>Bart in Chinese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Question 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429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What languages can Bart speak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A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French , Chinese, Japanese, Brazilian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B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Irish ,Dutch , Italian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C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Spanish ,Canadian , Russian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Question 5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Georgia"/>
              </a:rPr>
              <a:t>                             </a:t>
            </a:r>
            <a:r>
              <a:rPr b="0" lang="en-AU" sz="1900" spc="-1" strike="noStrike">
                <a:solidFill>
                  <a:srgbClr val="000000"/>
                </a:solidFill>
                <a:latin typeface="Georgia"/>
              </a:rPr>
              <a:t>Where was Bart born?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Georgia"/>
              </a:rPr>
              <a:t>                            </a:t>
            </a:r>
            <a:r>
              <a:rPr b="0" lang="en-AU" sz="19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en-AU" sz="19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Shelbevile</a:t>
            </a:r>
            <a:r>
              <a:rPr b="0" lang="en-AU" sz="19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1900"/>
            </a:br>
            <a:r>
              <a:rPr b="0" lang="en-AU" sz="1900" spc="-1" strike="noStrike">
                <a:solidFill>
                  <a:srgbClr val="000000"/>
                </a:solidFill>
                <a:latin typeface="Georgia"/>
              </a:rPr>
              <a:t>                        2.</a:t>
            </a:r>
            <a:r>
              <a:rPr b="0" lang="en-AU" sz="19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North Haverbrook</a:t>
            </a:r>
            <a:r>
              <a:rPr b="0" lang="en-AU" sz="1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Georgia"/>
              </a:rPr>
              <a:t>                            </a:t>
            </a:r>
            <a:r>
              <a:rPr b="0" lang="en-AU" sz="19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0" lang="en-AU" sz="19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Springfield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Question 6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What jobs has Bart had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A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wine brewer, drink mixer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B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Dog catcher and writer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C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Menu boy, currier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23:17:45Z</dcterms:created>
  <dc:creator>user</dc:creator>
  <dc:description/>
  <dc:language>en-US</dc:language>
  <cp:lastModifiedBy>user</cp:lastModifiedBy>
  <dcterms:modified xsi:type="dcterms:W3CDTF">2009-10-05T22:23:50Z</dcterms:modified>
  <cp:revision>16</cp:revision>
  <dc:subject/>
  <dc:title>Bart Simpson Quiz</dc:title>
</cp:coreProperties>
</file>